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6C4-15AE-4C2A-9909-D3DA081C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vsd.org/university/classpage/jgriffith/pages/Bio%20Crimson%20items/%20Energetics/energetic%20ws'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chthyosapiens.com/School/BIO181/Quizzes/Photosynthesis/Photosynthe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vcc.edu/depts/biology/HotPot/Biol%201406/Calvin-Bens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n interactive website…you can test yourself and check you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1A7-2D24-471D-A6C3-AE494404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697-BF27-4100-8180-947428B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BB0-9408-408A-8A3F-88D52C83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C90-CDEB-420B-9D35-9DCD392A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69C-A943-4504-993C-54CCAFC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5F3-A15B-45A1-ADE7-3BB7EA80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C4B-F95C-41FA-893A-40C0FB2D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B1F-8614-4BD3-B723-4E2F2023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752-3538-4BAA-93EC-C8F9653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82A-C496-4F18-9F52-33BB5BD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797-9048-44EF-87BA-A0A7E3A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40E-92A2-482F-873C-8013057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4A0A-CA7D-4665-A8E9-19C7A40B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cc.edu/depts/biology/HotPot/Biol%201406/Calvin-Benso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bwbiology.net/quizzes/ch10-photosynthesis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oes in?  Comes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3400" y="1981080"/>
            <a:ext cx="567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6480" y="1981080"/>
            <a:ext cx="55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abel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blanks online:</a:t>
            </a:r>
            <a:br>
              <a:rPr sz="2200"/>
            </a:b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vcc.edu/depts/biology/HotPot/Biol%201406/Calvin-Benson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31840" y="1523880"/>
            <a:ext cx="5230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ry this quiz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reat 19-question multiple choice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bwbiology.net/quizzes/ch10-photosynthe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2:40:46Z</dcterms:created>
  <dc:creator>rubina khan</dc:creator>
  <dc:description/>
  <dc:language>en-US</dc:language>
  <cp:lastModifiedBy>rubina khan</cp:lastModifiedBy>
  <dcterms:modified xsi:type="dcterms:W3CDTF">2013-04-05T13:43:10Z</dcterms:modified>
  <cp:revision>10</cp:revision>
  <dc:subject/>
  <dc:title>PowerPoint Presentation</dc:title>
</cp:coreProperties>
</file>